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9BE-D9DD-44A2-8A8D-FCA8FEF4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314-2DFE-40EA-81F6-45A76B5B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BC73-F7A0-43DA-8C84-51E9A4C6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F974-C139-4A8D-9BE3-FEF898F8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022-8216-4B97-BD4F-27156DFD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58E9-6400-4A48-92EC-9409C78E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C54-CB07-405B-A319-9F6578C1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242-94F0-4D58-A8BB-32255C87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806F-3AC2-4AF4-8899-D06EDB7D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A92-8A4A-4A9C-8BB5-BD7CFA30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EBC-FA9B-4B85-8EFA-305A8FEE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8F0-BB91-4A0B-86E9-43FA288B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0FF9-890C-4D65-B49D-29D61967F1D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209520"/>
            <a:ext cx="8136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353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ن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يونس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نبي الله يونس عليه السلام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0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إس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نبوة و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توحيد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عوة للإيمان بالرسالات السماو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قصة يونس عليه ال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نجاة قوم يونس لما آم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3T20:49:25Z</dcterms:modified>
  <cp:revision>1788</cp:revision>
  <dc:subject/>
  <dc:title>عرض تقديمي في PowerPoint</dc:title>
</cp:coreProperties>
</file>